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6.png" ContentType="image/png"/>
  <Override PartName="/ppt/media/image5.wmf" ContentType="image/x-wmf"/>
  <Override PartName="/ppt/media/applause.wav" ContentType="audio/x-wav"/>
  <Override PartName="/ppt/media/image10.png" ContentType="image/png"/>
  <Override PartName="/ppt/media/image4.png" ContentType="image/png"/>
  <Override PartName="/ppt/media/image16.gif" ContentType="image/gif"/>
  <Override PartName="/ppt/media/image14.png" ContentType="image/png"/>
  <Override PartName="/ppt/media/image13.png" ContentType="image/png"/>
  <Override PartName="/ppt/media/chimes.wav" ContentType="audio/x-wav"/>
  <Override PartName="/ppt/media/image2.png" ContentType="image/png"/>
  <Override PartName="/ppt/media/suction.wav" ContentType="audio/x-wav"/>
  <Override PartName="/ppt/media/image12.png" ContentType="image/png"/>
  <Override PartName="/ppt/media/image11.png" ContentType="image/png"/>
  <Override PartName="/ppt/media/image7.gif" ContentType="image/gif"/>
  <Override PartName="/ppt/media/image1.jpeg" ContentType="image/jpeg"/>
  <Override PartName="/ppt/media/type.wav" ContentType="audio/x-wav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3D6B-D11F-41E1-B507-D5969AC9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CFC-8AC1-41B2-8576-1CAF65CF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809-1C39-4505-8CA3-CA2200ED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572-F613-4838-92EE-660379ED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B49-5DD3-4E47-8E8E-AC28AA0D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BA0-0D77-4AD2-89EC-050A105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D69-4432-498B-8928-F2F6C150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8E6-0EED-460C-BA01-0358EA7A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3C3-0FB7-4BD6-A313-3E2AEC55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56B-4259-4199-8AD3-3BB75431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82A-AE4E-48B3-B9E9-A5C0502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57A-D652-4CD1-A7FA-0AD60C1F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739B-B378-4E19-A74C-191E2D6A2B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uction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268280"/>
            <a:ext cx="784368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1440400">
            <a:off x="899640" y="1412640"/>
            <a:ext cx="719460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00ffff"/>
                    </a:gs>
                  </a:gsLst>
                  <a:lin ang="109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珍爱生命</a:t>
            </a:r>
            <a:endParaRPr b="1" i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00ffff"/>
                  </a:gs>
                </a:gsLst>
                <a:lin ang="109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77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华文琥珀"/>
                <a:ea typeface="华文琥珀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华文琥珀"/>
                <a:ea typeface="华文琥珀"/>
              </a:rPr>
              <a:t>校园行为规范与安全教育</a:t>
            </a:r>
            <a:r>
              <a:rPr b="0" lang="zh-CN" sz="3600" spc="-1" strike="noStrike">
                <a:solidFill>
                  <a:srgbClr val="0099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环境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消防安全（火灾自救逃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然灾害（地震等天灾自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电安全（寝室不私接电线等、教室里不允许充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不在教学区、寝室区运动，以免造成意外伤害事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出操时不推搡，不并排进场，以免发生踩踏事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育课或课外活动切忌拼抢过度，造成身体伤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饮食安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学校就餐，不吃无证小摊贩上的零食，不买“三无”零食，以防食物中毒事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9600" spc="-1" strike="noStrike">
              <a:solidFill>
                <a:srgbClr val="ff0066"/>
              </a:solidFill>
              <a:latin typeface="Arial"/>
              <a:ea typeface="华文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76360" y="-674640"/>
            <a:ext cx="6264360" cy="417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80808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网络安全</a:t>
            </a:r>
            <a:endParaRPr b="1" lang="en-US" sz="8000" spc="1" strike="noStrike">
              <a:ln w="12600">
                <a:solidFill>
                  <a:srgbClr val="80808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不良信息向我们袭来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网上色情、暴力、反动信息等内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％的青少年网民承认自己曾经浏览过色情网站，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％的人承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经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去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77080" y="5229360"/>
            <a:ext cx="1152360" cy="11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沉迷网络游戏不可自拔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的少年吴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沉迷于电脑游戏，无法自拔。为了偷钱上网吧，他在通州奶奶家，趁爷爷奶奶熟睡之际，亲手将奶奶砍死，爷爷被砍成重伤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20000" y="4869000"/>
            <a:ext cx="1600200" cy="1438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258920" y="3141720"/>
            <a:ext cx="5688000" cy="2565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上网比什么都重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76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案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１６岁的少年胡某在网吧里玩一种用刀捅人的暴力游戏时，由于技术欠佳，受到另一人的冷嘲热讽。在网络上“杀”红了眼的胡某当即火冒三丈，抽出大半尺长的防身刀具，捅向受害人的胸口，导致受害人当场死亡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2852640"/>
            <a:ext cx="4824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方正舒体"/>
              </a:rPr>
              <a:t>“</a:t>
            </a:r>
            <a:r>
              <a:rPr b="0" lang="zh-CN" sz="6000" spc="-1" strike="noStrike">
                <a:solidFill>
                  <a:srgbClr val="ff0000"/>
                </a:solidFill>
                <a:latin typeface="Verdana"/>
                <a:ea typeface="方正舒体"/>
              </a:rPr>
              <a:t>杀无赦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4860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案例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傍晚，四川一名流浪少年赵刚被被人砸烂，尸体上还有几处刀伤，其死状惨不忍睹。杀害少年的凶手竟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嗜好上网玩“杀人游戏”的中专生，他们杀人的目的只是为了验证自己“胆量有多大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2637000"/>
            <a:ext cx="5616360" cy="825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他们杀出“瘾”来了</a:t>
            </a:r>
            <a:r>
              <a:rPr b="1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5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6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测一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每天起床后情绪低落，头昏眼花，疲乏无力，食欲不振，或神不守舍，而一旦上网便精神抖擞，百“病”全消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上网时表现得神思敏捷，口若悬河，并感到格外开心，一旦离开网络便语言迟钝，情绪低落，怅然若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4824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只有不断增加上网时间才能感到满足，从而使得上网时间失控，经常比预定时间长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无法控制去上网的冲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每看到一个新网址就会心跳加快或心率不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只要长时间不上网操作就手痒难耐。有时刚刚离网就有又想上网的冲动。有时早晨一起床就有想上网这种欲望。甚至夜间趁小便的空也想打开电脑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20000" y="5346720"/>
            <a:ext cx="1439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琥珀"/>
              </a:rPr>
              <a:t>“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琥珀"/>
              </a:rPr>
              <a:t>世界上没有任何东西能比生命更值得珍惜，因为生命是无价的。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每当因特网的线路被掐断或由于其它原因不能上网，便感到烦躁不安或情绪低落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平常有不由自主地敲击键盘的动作，或身体有颤抖的现象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对家人或亲友隐瞒迷恋因特网的程度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因迷恋因特网而面临失学、失业或失去朋友的危险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757680"/>
            <a:ext cx="3168720" cy="310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132000" y="1197000"/>
            <a:ext cx="5651640" cy="3960720"/>
          </a:xfrm>
          <a:prstGeom prst="wedgeEllipseCallout">
            <a:avLst>
              <a:gd name="adj1" fmla="val -59861"/>
              <a:gd name="adj2" fmla="val 49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你其中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或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以上表现，且持续时间已经达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以上，那么就表明你已经患上了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IA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网络成瘾综合症悄悄的向你走来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互联网成瘾综合症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称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AD”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net addiction disord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AD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患者最主要的表现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对网络操作出现时间失控，而且随着乐趣的增强，欲罢不能，难以自拔。情绪低落、头昏眼花、双手颤抖、疲乏无力、食欲不振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59280" y="4797360"/>
            <a:ext cx="1600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网毒面面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浏览不良信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涉及色情、暴力、             反动等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网络综合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网络游戏、成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网络犯罪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网络诈骗、黑网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55640" y="5229360"/>
            <a:ext cx="80964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41120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4968720" cy="1314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信息高速公路上，请勿疲劳驾驶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59280" y="3933720"/>
            <a:ext cx="23288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 文明进行课间活动，不追跑打闹，不做危险的游戏，上下楼梯小心、右边慢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 严禁在校园内骑自行车，请下车推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饮食安全。不要购买“三无”食品；禁止任何学生在校门口和街头流动摊点购买零食，防止食物中毒。要学会保护自己，照顾自己，注意不要暴饮暴食，尽量少食用生冷的食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404640"/>
            <a:ext cx="497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Comic Sans MS"/>
                <a:ea typeface="华文隶书"/>
              </a:rPr>
              <a:t>遵守校规，珍爱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134560" cy="71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各项运动中要注意运动安全。上体育课和课外活动前要作好准备活动，运动时要注意不要剧烈碰撞，以免撞伤或摔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教室内有人，教室后门要按规定不上锁，确保从里面能及时打开；只要教室里没有人，教室里就要关灯、关窗、关门。如遇下雨天，各班要主动听从安排，有序排队下楼，要注意防滑，防摔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网络是一个很好的学习工具，我们可以利用它搜集资料，拓宽视野。但是网络也有很多危害，如果上网浏览不健康的网页，或毫无节制地沉溺于虚拟空间，就会影响同学们的身心健康。我们的校规中的十大禁令明确提出，严禁学生进入网吧、游戏厅、歌舞厅等营业性场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生对自己的所作所为也要有安全意识。在同学间遇到矛盾时，一定要冷静、理智，切忌用拳头代替说理，给自己和同学带来不良的后果。与人冲突时要谨记：退一步海阔天空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4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寿命的缩短与思想的虚耗成正比。 ——达尔文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3320" y="270828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_x000b__x000c_"/>
              </a:rPr>
              <a:t>生命在闪耀中现出绚烂，在平凡中现出真实。 ——伯 克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8680" y="3505320"/>
            <a:ext cx="20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_x000b__x000c_"/>
              </a:rPr>
              <a:t>生命不可能有两次，但许多人连一次也不善于度过。 ——吕凯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8920" y="450864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_x000b__x000c_"/>
              </a:rPr>
              <a:t>如能善于利用，生命乃悠长。 ——塞涅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229360"/>
            <a:ext cx="777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2060640"/>
            <a:ext cx="849780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请珍惜我们有限的生命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国每年大约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名中小学生非正常死亡，中小学生因安全事故、食物中毒、溺水等死亡的，平均每天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多人，也就是说每天将有一个班的学生在“消失”。据中国青少年研究中心的全国性大型调查发现，安全事故已成为我国中小学生的第一死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国家有关部门发出通知，决定建立“安全教育日”制度，将每年三月最后一周的星期一定为全国中小学生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安全教育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6024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校园隐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校园安全涉及到学生生活和学习方面的安全隐患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之多，其中包括交通事故、食物中毒、火灾火险、体育运动损伤等等。这些都时刻在威胁着青少年学生的健康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交通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环境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运动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饮食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网络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00000" y="2708280"/>
            <a:ext cx="723744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交通安全记心间</a:t>
            </a:r>
            <a:endParaRPr b="0" lang="en-US" sz="8000" spc="1" strike="noStrike">
              <a:ln w="9360">
                <a:solidFill>
                  <a:srgbClr val="66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03280" y="5484960"/>
            <a:ext cx="597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Comic Sans MS"/>
                <a:ea typeface="新宋体"/>
              </a:rPr>
              <a:t>骑车上下学一群并排行驶，这样既妨碍交通，又不文明，互相挤道，也容易摔跤或撞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6237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3744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suction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71640" y="260280"/>
            <a:ext cx="7345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通安全一注意：横过公路要一停二看三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1341360"/>
            <a:ext cx="77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交通安全一要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横过公路要一停二看三通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校内请下车推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42:2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4:08Z</dcterms:modified>
  <cp:revision>1</cp:revision>
  <dc:subject>主题班会课件(分28大类): http://shop62905894.taobao.com</dc:subject>
  <dc:title>主题班会课件(分28大类): http://shop62905894.taobao.com</dc:title>
</cp:coreProperties>
</file>